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864725" cy="6875463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ldImg"/>
          </p:nvPr>
        </p:nvSpPr>
        <p:spPr>
          <a:xfrm>
            <a:off x="3144600" y="511200"/>
            <a:ext cx="3654360" cy="25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920" bIns="4392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4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3"/>
          </p:nvPr>
        </p:nvSpPr>
        <p:spPr>
          <a:xfrm>
            <a:off x="-360" y="6457680"/>
            <a:ext cx="4303800" cy="3394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5"/>
          </p:nvPr>
        </p:nvSpPr>
        <p:spPr>
          <a:xfrm>
            <a:off x="562464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08E5A-0FDD-40FA-9EA5-8B44FD2C422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F2C9159-9AC4-4F32-82BC-54163E7AEFED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4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9981BDD-ED4A-4F32-AC06-96E8825530A2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4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BB0B347-E85F-4E1D-AC75-E475D33D6E29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9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C14A72-1EA2-4961-B6D5-BFAFEE6211F2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4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85C6ED-4B3D-4A4E-BE00-E859EE2E6B9F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9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581BF0-0F44-4D22-9F3E-BA79CD62C6F2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4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F19342-6191-4FAC-9614-A4B547A0C3A3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8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9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AC8B500-12E6-4E37-8643-24B207230607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4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45A618-0791-4A4F-B7CD-C83CEB9B18CD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8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49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Espace réservé de l'en-tête 3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029ABF-10B4-4AE4-BAE9-57B90C7478B8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9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8977F59-0CC3-41AF-AFE8-50481A992B5C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9CF08DD-FEFF-4369-9277-B817B3F5461D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9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2984E22-9200-4668-B9B1-9E1A446D0444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5624640" y="6458040"/>
            <a:ext cx="430344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F63E30-CE97-41F3-B575-4F9DFF6FE6BF}" type="slidenum">
              <a:rPr b="1" i="1" lang="fr-FR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3144960" y="511200"/>
            <a:ext cx="3654360" cy="25480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1323720" y="3230280"/>
            <a:ext cx="7280280" cy="305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6458040"/>
            <a:ext cx="43038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9" name="Espace réservé de l'en-tête 1"/>
          <p:cNvSpPr/>
          <p:nvPr/>
        </p:nvSpPr>
        <p:spPr>
          <a:xfrm>
            <a:off x="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COMMUNAUTE D'AGGLOM2RATION DE COLMAR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2919-334B-49FC-9145-344C58E15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8877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3691800"/>
            <a:ext cx="8877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9433B-59A7-4D31-80DD-555075F4D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216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369180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2160" y="369180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FF475-E753-41A0-8410-5771165C76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4880" y="160884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6560" y="160884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369180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4880" y="369180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6560" y="369180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64C45-FC49-4F7F-845B-39ADF8D2C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AE4B-161A-467C-9C4B-753E7F0DBB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3200" y="1608840"/>
            <a:ext cx="8877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DF5DC-99C6-4448-9D85-CC8153E1FCC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8877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0CA0C-BF62-4E16-9CE4-5A09691AF0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43318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42160" y="1608840"/>
            <a:ext cx="43318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51686-FF61-4E74-BDB2-87D1872104F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E27B9-943C-4CDF-9AED-2C0E74118E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3200" y="274320"/>
            <a:ext cx="8877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BE2D0-3F01-44CB-8F68-330C2898D4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2160" y="1608840"/>
            <a:ext cx="43318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3200" y="369180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203A-B9D4-41F3-B186-ED5E9977A2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1608840"/>
            <a:ext cx="8877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2287B-4080-4093-B7D3-60109D20E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43318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16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42160" y="369180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FB30A-00A1-4663-816E-B79FC7BAFE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216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200" y="3691800"/>
            <a:ext cx="8877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B221-2AD0-4A1D-A81E-219CB9527B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8877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" y="3691800"/>
            <a:ext cx="8877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7512B-7EEC-4229-9BA2-C33AB48A829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216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3200" y="369180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42160" y="369180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5CAA6-E595-4A6D-8584-1DCC5035CD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94880" y="160884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496560" y="160884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3200" y="369180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94880" y="369180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496560" y="3691800"/>
            <a:ext cx="285840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655A-952C-46AD-85C1-F0E3E335B9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887724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64FC3-CD6F-424C-B715-6C584B3DB0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43318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2160" y="1608840"/>
            <a:ext cx="43318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A8222-97EC-4F8A-8BBD-366AD0273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03172-85DC-477A-B19A-65C9962A99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274320"/>
            <a:ext cx="887724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EDE44-7DC4-47AA-97A5-3C4662A4A0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2160" y="1608840"/>
            <a:ext cx="43318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369180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2212-324D-4564-9606-0B0AF03E48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433188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216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2160" y="369180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68EE-1188-4116-BAEF-AC084D3872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274320"/>
            <a:ext cx="8877240" cy="114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4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160" y="1608840"/>
            <a:ext cx="433188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3691800"/>
            <a:ext cx="8877240" cy="190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5373-FD0F-4D5D-A220-812A3AE2AF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4"/>
          <p:cNvSpPr/>
          <p:nvPr/>
        </p:nvSpPr>
        <p:spPr>
          <a:xfrm>
            <a:off x="0" y="743040"/>
            <a:ext cx="8874000" cy="31680"/>
          </a:xfrm>
          <a:prstGeom prst="rect">
            <a:avLst/>
          </a:prstGeom>
          <a:solidFill>
            <a:srgbClr val="409f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-16200" bIns="-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" name="Rectangle 56"/>
          <p:cNvSpPr/>
          <p:nvPr/>
        </p:nvSpPr>
        <p:spPr>
          <a:xfrm>
            <a:off x="0" y="0"/>
            <a:ext cx="561960" cy="487692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Text Box 29"/>
          <p:cNvSpPr/>
          <p:nvPr/>
        </p:nvSpPr>
        <p:spPr>
          <a:xfrm rot="16200000">
            <a:off x="-1427760" y="2650320"/>
            <a:ext cx="33613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Schéma directeur d’accessibilité du réseau </a:t>
            </a:r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fr-FR" sz="1200" spc="-1" strike="noStrike">
                <a:solidFill>
                  <a:srgbClr val="ffffff"/>
                </a:solidFill>
                <a:latin typeface="Arial"/>
              </a:rPr>
              <a:t>de transports urbains colmarien</a:t>
            </a:r>
            <a:r>
              <a:rPr b="1" i="1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3" name="Picture 66" descr=""/>
          <p:cNvPicPr/>
          <p:nvPr/>
        </p:nvPicPr>
        <p:blipFill>
          <a:blip r:embed="rId2"/>
          <a:stretch/>
        </p:blipFill>
        <p:spPr>
          <a:xfrm>
            <a:off x="8551800" y="0"/>
            <a:ext cx="1312920" cy="68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4082-9F9A-456F-9B89-10A39CE77A5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997A-4AA5-44CC-8F24-FD214DEDA0B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race-colmar.fr/" TargetMode="Externa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18" descr=""/>
          <p:cNvPicPr/>
          <p:nvPr/>
        </p:nvPicPr>
        <p:blipFill>
          <a:blip r:embed="rId1"/>
          <a:stretch/>
        </p:blipFill>
        <p:spPr>
          <a:xfrm>
            <a:off x="-17640" y="125280"/>
            <a:ext cx="9865080" cy="19940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9"/>
          <p:cNvSpPr/>
          <p:nvPr/>
        </p:nvSpPr>
        <p:spPr>
          <a:xfrm>
            <a:off x="68400" y="2819520"/>
            <a:ext cx="9864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7" name="Text Box 115"/>
          <p:cNvSpPr/>
          <p:nvPr/>
        </p:nvSpPr>
        <p:spPr>
          <a:xfrm>
            <a:off x="539640" y="2575080"/>
            <a:ext cx="8785440" cy="36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409f39"/>
                </a:solidFill>
                <a:latin typeface="Arial"/>
                <a:ea typeface="Arial"/>
              </a:rPr>
              <a:t>Schéma directeur d’accessibilité du réseau de transports urbains </a:t>
            </a:r>
            <a:endParaRPr b="1" i="1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409f39"/>
                </a:solidFill>
                <a:latin typeface="Arial"/>
                <a:ea typeface="Arial"/>
              </a:rPr>
              <a:t>de Colmar Agglomération</a:t>
            </a:r>
            <a:endParaRPr b="1" i="1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9900"/>
                </a:solidFill>
                <a:latin typeface="Arial"/>
                <a:ea typeface="Arial"/>
              </a:rPr>
              <a:t>Commission communale pour l’accessibilité </a:t>
            </a:r>
            <a:endParaRPr b="1" i="1" lang="en-US" sz="2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9900"/>
                </a:solidFill>
                <a:latin typeface="Arial"/>
                <a:ea typeface="Arial"/>
              </a:rPr>
              <a:t>des personnes handicapées</a:t>
            </a:r>
            <a:endParaRPr b="1" i="1" lang="en-US" sz="2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200" spc="-1" strike="noStrike">
                <a:solidFill>
                  <a:srgbClr val="ff9900"/>
                </a:solidFill>
                <a:latin typeface="Arial"/>
                <a:ea typeface="Arial"/>
              </a:rPr>
              <a:t>Ville de Colmar</a:t>
            </a:r>
            <a:endParaRPr b="1" i="1" lang="en-US" sz="2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9900"/>
                </a:solidFill>
                <a:latin typeface="Arial"/>
                <a:ea typeface="Arial"/>
              </a:rPr>
              <a:t>Le 28 septembre 2017</a:t>
            </a: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ZoneTexte 2"/>
          <p:cNvSpPr/>
          <p:nvPr/>
        </p:nvSpPr>
        <p:spPr>
          <a:xfrm>
            <a:off x="136440" y="12528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755640" y="270000"/>
            <a:ext cx="676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des lieux 2011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755640" y="1335240"/>
            <a:ext cx="7777080" cy="68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Les arrêts de bus de 14 lignes sont accessibles  :  en orange les dernières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n°1 : Horbourg-Wihr / Colmar Europe (via Théâtre et Gare),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n°2 : Logelbach Cte Cial / Houssen Cte Cial (via Théâtre et Gare),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n°3 : Colmar Europe / Théâtre / Gare / Colmar Europe,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ligne n°4</a:t>
            </a:r>
            <a:r>
              <a:rPr b="1" i="1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 Gare / Théâtre / H. Schweitzer / Gare,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ligne n°5</a:t>
            </a:r>
            <a:r>
              <a:rPr b="1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:</a:t>
            </a:r>
            <a:r>
              <a:rPr b="1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Wintzenheim / Gare / Théâtre,</a:t>
            </a:r>
            <a:r>
              <a:rPr b="1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ligne n°6 : Colmar Saint-Joseph / Colmar marché couvert (</a:t>
            </a:r>
            <a:r>
              <a:rPr b="0" lang="fr-FR" sz="1200" spc="-1" strike="noStrike">
                <a:solidFill>
                  <a:srgbClr val="4d4d4d"/>
                </a:solidFill>
                <a:latin typeface="Arial"/>
              </a:rPr>
              <a:t>sauf arrêt Turenne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),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ligne n° 7 : Les Erlen / Colmar Z.I. Nord,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ligne n° 8 : Colmar Théâtre/Europe / Turckheim </a:t>
            </a:r>
            <a:r>
              <a:rPr b="0" lang="fr-FR" sz="1200" spc="-1" strike="noStrike">
                <a:solidFill>
                  <a:srgbClr val="4d4d4d"/>
                </a:solidFill>
                <a:latin typeface="Arial"/>
              </a:rPr>
              <a:t>(sauf arrêt Fecht), </a:t>
            </a:r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ligne A (dimanche et jours fériés)  : Horbourg-Wihr / Colmar Europe (via Théâtre et Gare),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ligne B (dimanche et jours fériés) : Ingersheim Pl. De Gaulle / Colmar Hôpital Schweitzer,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ligne C (dimanche et jours fériés) : Colmar Base nautique / Wintzenheim Chapelle,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la ligne n°22 : Sainte Croix en Plaine / Colmar Théâtre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ff99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la ligne n°23 : Sundfhoffen Centre / Colmar Théâtre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a ligne n° 25 : Colmar / Ingersheim Florimont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828720" y="917640"/>
            <a:ext cx="7200720" cy="368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es arrêts de bus : accessibilité  pour les PMR</a:t>
            </a: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55640" y="270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L’état des lieux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3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9425-37A4-4884-8F62-0F7FFD124418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4" name="ZoneTexte 2"/>
          <p:cNvSpPr/>
          <p:nvPr/>
        </p:nvSpPr>
        <p:spPr>
          <a:xfrm>
            <a:off x="136440" y="6336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755640" y="270000"/>
            <a:ext cx="676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des lieux 2011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755640" y="1335240"/>
            <a:ext cx="777708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La quasi-totalité des arrêts sera aux normes à l’horizon 2018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Prévisions 2018 :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En 2018, la ligne n°24 : Colmar Riedwihr et Colmar Jebsheim, et la ligne n°26 : Colmar Herrlisheim Près Colmar, la ligne 20 : Colmar / Fortschwihr Mairie, la ligne n°21 : Colmar / Andolsheim, la ligne 9 : Sundhoffen / Horbourg-Wihr / Fortschwihr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9f39"/>
                </a:solidFill>
                <a:latin typeface="Arial"/>
              </a:rPr>
              <a:t>Les lignes 1, 2, 3, 5, 6, 7, 8, A, B, C, 22, 24 vers Jebsheim et la 25 vers Ingersheim Florimont sont entièrement accessibles, c’est-à-dire que les véhicules affectés, les arrêts de bus et l’information voyageur sont aux normes.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09f39"/>
                </a:solidFill>
                <a:latin typeface="Arial"/>
              </a:rPr>
              <a:t>Enfin, une formation autour de l’accessibilité et l’accueil des Personnes à Mobilité Réduite dans les transports a été dispensée au personnel de la STUCE par l’APF le 23 mars 2017.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828720" y="917640"/>
            <a:ext cx="7200720" cy="368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es arrêts de bus : accessibilité  pour les PMR</a:t>
            </a: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55640" y="270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L’état des lieux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D672D-9CAB-4231-BC94-6CC6A999F0D8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0" name="ZoneTexte 2"/>
          <p:cNvSpPr/>
          <p:nvPr/>
        </p:nvSpPr>
        <p:spPr>
          <a:xfrm>
            <a:off x="136440" y="63360"/>
            <a:ext cx="3211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420840" y="266760"/>
            <a:ext cx="76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L’état des lieux 2017 : arrêts accessibles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7A687-1FF9-414E-A5F3-82569762EC1B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3" name="ZoneTexte 2"/>
          <p:cNvSpPr/>
          <p:nvPr/>
        </p:nvSpPr>
        <p:spPr>
          <a:xfrm>
            <a:off x="154080" y="6336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4" name="Picture 7" descr="C:\Users\risser\AppData\Local\Temp\notes6D0E1E\AccessibiliteArretsBusA4_2017.jpg"/>
          <p:cNvPicPr/>
          <p:nvPr/>
        </p:nvPicPr>
        <p:blipFill>
          <a:blip r:embed="rId1"/>
          <a:stretch/>
        </p:blipFill>
        <p:spPr>
          <a:xfrm>
            <a:off x="611280" y="981000"/>
            <a:ext cx="7826400" cy="552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684360" y="343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9f39"/>
                </a:solidFill>
                <a:latin typeface="Arial"/>
              </a:rPr>
              <a:t>L’état des lieux 2017 : 10 lignes accessibles : 7 lignes de semaine</a:t>
            </a: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6" name="Espace réservé du numéro de diapositive 5"/>
          <p:cNvSpPr/>
          <p:nvPr/>
        </p:nvSpPr>
        <p:spPr>
          <a:xfrm>
            <a:off x="6877080" y="639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F7FF-32BC-423D-A7D3-313804CBADE7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7" name="ZoneTexte 2"/>
          <p:cNvSpPr/>
          <p:nvPr/>
        </p:nvSpPr>
        <p:spPr>
          <a:xfrm>
            <a:off x="136440" y="6336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8" name="Picture 6" descr="C:\Users\risser\AppData\Local\Temp\notes6D0E1E\AccessibiliteArretsBusEtlignesSemainesA4_2017.jpg"/>
          <p:cNvPicPr/>
          <p:nvPr/>
        </p:nvPicPr>
        <p:blipFill>
          <a:blip r:embed="rId1"/>
          <a:stretch/>
        </p:blipFill>
        <p:spPr>
          <a:xfrm>
            <a:off x="544680" y="882720"/>
            <a:ext cx="8059680" cy="56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684360" y="34308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9f39"/>
                </a:solidFill>
                <a:latin typeface="Arial"/>
              </a:rPr>
              <a:t>L’état des lieux 2017 : 3 lignes de dimanche </a:t>
            </a: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0" name="Espace réservé du numéro de diapositive 5"/>
          <p:cNvSpPr/>
          <p:nvPr/>
        </p:nvSpPr>
        <p:spPr>
          <a:xfrm>
            <a:off x="6877080" y="639144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0460-A505-433C-8A87-03077C08A6C3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1" name="ZoneTexte 2"/>
          <p:cNvSpPr/>
          <p:nvPr/>
        </p:nvSpPr>
        <p:spPr>
          <a:xfrm>
            <a:off x="136440" y="6336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2" name="Picture 2" descr="C:\Users\risser\AppData\Local\Temp\notes6D0E1E\AccessibiliteArretsBusEtlignesWeekEndA4_2017.jpg"/>
          <p:cNvPicPr/>
          <p:nvPr/>
        </p:nvPicPr>
        <p:blipFill>
          <a:blip r:embed="rId1"/>
          <a:stretch/>
        </p:blipFill>
        <p:spPr>
          <a:xfrm>
            <a:off x="684360" y="936720"/>
            <a:ext cx="772452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755640" y="270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Synthèse comparatif 2008 / 2018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4FAF7-8B62-4FE2-AF8B-7126925CD5D1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5" name="ZoneTexte 2"/>
          <p:cNvSpPr/>
          <p:nvPr/>
        </p:nvSpPr>
        <p:spPr>
          <a:xfrm>
            <a:off x="136440" y="63360"/>
            <a:ext cx="3211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55640" y="990720"/>
          <a:ext cx="7848720" cy="5365800"/>
        </p:xfrm>
        <a:graphic>
          <a:graphicData uri="http://schemas.openxmlformats.org/drawingml/2006/table">
            <a:tbl>
              <a:tblPr/>
              <a:tblGrid>
                <a:gridCol w="1039680"/>
                <a:gridCol w="1032120"/>
                <a:gridCol w="1031760"/>
                <a:gridCol w="1031760"/>
                <a:gridCol w="1033560"/>
                <a:gridCol w="1033560"/>
                <a:gridCol w="839880"/>
                <a:gridCol w="806400"/>
              </a:tblGrid>
              <a:tr h="3603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8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1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3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5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6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if 2017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ctif 2018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60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arc autobu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6180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rêts de bu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5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6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7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6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4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0/413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60360">
                <a:tc>
                  <a:txBody>
                    <a:bodyPr lIns="6120" rIns="6120" tIns="612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: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 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603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Document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0685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Parc autobu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9 bandeaux lumineux Absence de plan de ligne 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 de plan réseau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 valideurs ba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 bandeaux lumineux 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début 2012) Présence de plan de ligne 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 de plan réseau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 valideurs bas</a:t>
                      </a:r>
                      <a:br>
                        <a:rPr sz="800"/>
                      </a:b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 bandeaux lumineux 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ésence de plan de ligne 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 de plan réseau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 valideurs ba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 bandeaux lumineux 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ésence de plan de ligne 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 de plan réseau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 valideurs ba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 bandeaux lumineux 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ésence de plan de ligne 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 de plan réseau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 valideurs ba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formation visuelle + visible et information sonore embarquée et</a:t>
                      </a:r>
                      <a:br>
                        <a:rPr sz="800"/>
                      </a:b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 valideurs bas réalisé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 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72072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Arrêts de bu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illes de caractères trop petite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ches horaires agrandie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ches horaires agrandie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ches horaires agrandie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ches horaires agrandie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ches horaires agrandie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ches horaires agrandies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6036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Site internet TRAC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 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 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 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 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 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me</a:t>
                      </a:r>
                      <a:endParaRPr b="1" i="1" lang="en-US" sz="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412920">
                <a:tc>
                  <a:txBody>
                    <a:bodyPr lIns="6120" rIns="6120" tIns="612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mbre de lignes TRACE accessibles (hors lignes affrétées)</a:t>
                      </a:r>
                      <a:endParaRPr b="1" i="1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</a:t>
                      </a:r>
                      <a:endParaRPr b="1" i="1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1" i="1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i="1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1" i="1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</a:t>
                      </a:r>
                      <a:endParaRPr b="1" i="1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</a:t>
                      </a:r>
                      <a:endParaRPr b="1" i="1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1" i="1" lang="en-US" sz="7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64720" cy="21193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3"/>
          <p:cNvSpPr/>
          <p:nvPr/>
        </p:nvSpPr>
        <p:spPr>
          <a:xfrm>
            <a:off x="68400" y="2819520"/>
            <a:ext cx="9864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9640" y="257508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9900"/>
                </a:solidFill>
                <a:latin typeface="Arial"/>
                <a:ea typeface="Arial"/>
              </a:rPr>
              <a:t>Un service de substitution pour </a:t>
            </a:r>
            <a:endParaRPr b="1" i="1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9900"/>
                </a:solidFill>
                <a:latin typeface="Arial"/>
                <a:ea typeface="Arial"/>
              </a:rPr>
              <a:t>l’ensemble du réseau</a:t>
            </a:r>
            <a:endParaRPr b="1" i="1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42DF-1BAC-419C-9681-112DF20A39CC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1" name="ZoneTexte 2"/>
          <p:cNvSpPr/>
          <p:nvPr/>
        </p:nvSpPr>
        <p:spPr>
          <a:xfrm>
            <a:off x="136440" y="125280"/>
            <a:ext cx="3211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755640" y="270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Le service de substitution 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611280" y="917640"/>
            <a:ext cx="792144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el législatif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« Le SDA définit les services de substitution qui seront mis en place dans le délai de trois ans à compter de l’approbation du schéma par l’autorité responsable et les principes d’organisation les concernant » (directive du 13 avril 2006)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Un service de substitution est nécessaire :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2017,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9 lignes régulières sont accessibles sur un total de 12.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 ailleurs, une partie des PMR lourdement handicapées n’est pas en capacité de prendre le bus, même accessible.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4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09BF-0223-4828-A6DB-D626DA252B13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5" name="ZoneTexte 2"/>
          <p:cNvSpPr/>
          <p:nvPr/>
        </p:nvSpPr>
        <p:spPr>
          <a:xfrm>
            <a:off x="136440" y="6336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755640" y="270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Le service de substitution 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11280" y="701640"/>
            <a:ext cx="8281800" cy="43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ff9900"/>
                </a:solidFill>
                <a:latin typeface="Wingdings"/>
                <a:ea typeface="Wingdings"/>
              </a:rPr>
              <a:t></a:t>
            </a: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9900"/>
                </a:solidFill>
                <a:latin typeface="Arial"/>
              </a:rPr>
              <a:t>Le service de substitution actuel : Trace Mobile</a:t>
            </a: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d4d4d"/>
                </a:solidFill>
                <a:latin typeface="Arial"/>
              </a:rPr>
              <a:t>Trace Mobile est un service dédié aux PMR fonctionnant d’adresse à adresse et sur réservation préalable.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4d4d4d"/>
                </a:solidFill>
                <a:latin typeface="Arial"/>
              </a:rPr>
              <a:t>L’accès au service se fait sur adhésion automatique selon l’un des critères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suivants :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 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- être titulaire de la carte d’invalidité CDAPH (anciennement COTOREP), dont le taux d’incapacité est               égal ou supérieur à 80 %,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- être titulaire de la carte « priorité pour personne handicapée » CDAPH (anciennement COTOREP), mention « Station debout pénible »,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- être une personne de plus de 75 ans à mobilité réduite (avoir droit à la « Tierce personne de la      Sécurité Sociale »)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 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Toutes les autres demandes sont soumises à </a:t>
            </a:r>
            <a:r>
              <a:rPr b="0" lang="fr-FR" sz="1400" spc="-1" strike="noStrike" u="sng">
                <a:solidFill>
                  <a:srgbClr val="4d4d4d"/>
                </a:solidFill>
                <a:uFillTx/>
                <a:latin typeface="Arial"/>
              </a:rPr>
              <a:t>la commission d’admission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ad hoc, créée en 2008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En 2016, Trace Mobile a réalisé 3 701 courses (+ 8 % par rapport à 2015) et a transporté 4 315 clients (+ 5 % par rapport à 2015) pour un coût de 108 226 € H.T.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34AB-C473-4FAF-A78F-6442F6756631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9" name="ZoneTexte 2"/>
          <p:cNvSpPr/>
          <p:nvPr/>
        </p:nvSpPr>
        <p:spPr>
          <a:xfrm>
            <a:off x="136440" y="5724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864720" cy="2119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68400" y="2819520"/>
            <a:ext cx="9864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539640" y="25750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9900"/>
                </a:solidFill>
                <a:latin typeface="Arial"/>
                <a:ea typeface="Arial"/>
              </a:rPr>
              <a:t>La mise en œuvre du SDA</a:t>
            </a:r>
            <a:endParaRPr b="1" i="1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AFF3-9642-4350-8C7C-C93950BDA386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3" name="ZoneTexte 2"/>
          <p:cNvSpPr/>
          <p:nvPr/>
        </p:nvSpPr>
        <p:spPr>
          <a:xfrm>
            <a:off x="136440" y="12528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55640" y="270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L’état des lieux du matériel roulant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11280" y="917640"/>
            <a:ext cx="792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n 2017, 7 autobus neufs ont été achetés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e qui porte à 34 bus sur 40 la part du parc accessible.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6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7601-2A97-4FFC-92B4-107577D58813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7" name="ZoneTexte 2"/>
          <p:cNvSpPr/>
          <p:nvPr/>
        </p:nvSpPr>
        <p:spPr>
          <a:xfrm>
            <a:off x="136440" y="6336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Rectangle 1"/>
          <p:cNvSpPr/>
          <p:nvPr/>
        </p:nvSpPr>
        <p:spPr>
          <a:xfrm>
            <a:off x="611280" y="2031840"/>
            <a:ext cx="7921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9900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Une livraison d’un 1 bus est programmée fin 2017/début 2018. Ainsi, 35 autobus seront accessibles.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ff9900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Le besoin de renouvellement ou d’adaptation des véhicules sera alors d’un véhicule en 2018/2019. Le parc accessible serait alors de 36 véhicules ce qui correspondrait à quasiment 100% des services (les quatre véhicules restant étant en réserve)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900000" y="1206360"/>
            <a:ext cx="720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d4d4d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es cars du CD68 affrétés par la TRACE sont accessibles sur les lignes régulières structurantes (hors doublage scolaire), à savoir les lignes 106, 109, 145, 248, 301, 346, 437 (n°22 TRACE, à Sainte Croix en Plaine) et 440.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Hormis la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igne 316, les lignes secondaires (318 et 326) ne sont pas accessibles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71640" y="2575080"/>
          <a:ext cx="7181640" cy="3754440"/>
        </p:xfrm>
        <a:graphic>
          <a:graphicData uri="http://schemas.openxmlformats.org/drawingml/2006/table">
            <a:tbl>
              <a:tblPr/>
              <a:tblGrid>
                <a:gridCol w="1041480"/>
                <a:gridCol w="2765160"/>
                <a:gridCol w="1290600"/>
                <a:gridCol w="2084400"/>
              </a:tblGrid>
              <a:tr h="46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gne TRACE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rection TRACE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gne CD68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éhicules accessibles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00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orschtwihr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6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i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olsheim Primevères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1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i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olsheim Primevères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3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99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ainte Croix en Plaine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37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i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undhoffen centre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6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00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iedwihr Place de l'école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8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ebsheim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6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i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9988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gersheim Florimont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5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i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urckheim Brand / Trois Epis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7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002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urckheim Cité Turenne / Walbach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8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ui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29844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ettolsheim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8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n</a:t>
                      </a:r>
                      <a:endParaRPr b="1" i="1" lang="en-US" sz="11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sp>
        <p:nvSpPr>
          <p:cNvPr id="101" name="Text Box 2"/>
          <p:cNvSpPr/>
          <p:nvPr/>
        </p:nvSpPr>
        <p:spPr>
          <a:xfrm>
            <a:off x="755640" y="270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L’état des lieux du matériel roulant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2" name="ZoneTexte 2"/>
          <p:cNvSpPr/>
          <p:nvPr/>
        </p:nvSpPr>
        <p:spPr>
          <a:xfrm>
            <a:off x="136440" y="6336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755640" y="1501920"/>
            <a:ext cx="4897440" cy="25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409f39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09f39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409f39"/>
                </a:solidFill>
                <a:latin typeface="Arial"/>
              </a:rPr>
              <a:t>Documents 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09f39"/>
                </a:solidFill>
                <a:latin typeface="Arial"/>
              </a:rPr>
              <a:t>Pas de changement </a:t>
            </a:r>
            <a:r>
              <a:rPr b="1" i="1" lang="fr-FR" sz="1600" spc="-1" strike="noStrike">
                <a:solidFill>
                  <a:srgbClr val="409f39"/>
                </a:solidFill>
                <a:latin typeface="Arial"/>
              </a:rPr>
              <a:t>(conforme au départ)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Wingding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Des documents de communication complets (Plans et guides horaires)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Utilisation d’un logo indiquant l’accessibilité aux personnes à mobilité réduite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(sur chaque bus, sur l’horaire de passage de bus édité dans le guide, sur internet, sur la fiche horaire à l’arrêt)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409f39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09f39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409f39"/>
                </a:solidFill>
                <a:latin typeface="Arial"/>
              </a:rPr>
              <a:t>Matériel roulant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755640" y="984240"/>
            <a:ext cx="4968720" cy="368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’information</a:t>
            </a: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55640" y="270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L’état des lieux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5940360" y="2070000"/>
            <a:ext cx="2629080" cy="1599840"/>
            <a:chOff x="5940360" y="2070000"/>
            <a:chExt cx="2629080" cy="1599840"/>
          </a:xfrm>
        </p:grpSpPr>
        <p:pic>
          <p:nvPicPr>
            <p:cNvPr id="107" name="Picture 6" descr="IMGP6765_icone_handicap"/>
            <p:cNvPicPr/>
            <p:nvPr/>
          </p:nvPicPr>
          <p:blipFill>
            <a:blip r:embed="rId1"/>
            <a:srcRect l="7031" t="0" r="5823" b="0"/>
            <a:stretch/>
          </p:blipFill>
          <p:spPr>
            <a:xfrm>
              <a:off x="5940360" y="2070000"/>
              <a:ext cx="2556000" cy="1227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08" name="Text Box 7"/>
            <p:cNvSpPr/>
            <p:nvPr/>
          </p:nvSpPr>
          <p:spPr>
            <a:xfrm>
              <a:off x="5942160" y="3327120"/>
              <a:ext cx="262728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1" i="1" lang="fr-FR" sz="900" spc="-1" strike="noStrike">
                  <a:solidFill>
                    <a:srgbClr val="4d4d4d"/>
                  </a:solidFill>
                  <a:latin typeface="Arial"/>
                </a:rPr>
                <a:t>Icônes figurant sur les bus accessibles</a:t>
              </a:r>
              <a:endParaRPr b="1" i="1" lang="en-US" sz="9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109" name="Text Box 8"/>
          <p:cNvSpPr/>
          <p:nvPr/>
        </p:nvSpPr>
        <p:spPr>
          <a:xfrm>
            <a:off x="1260360" y="4091040"/>
            <a:ext cx="755964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4d4d4d"/>
              </a:buClr>
              <a:buFont typeface="Wingdings" charset="2"/>
              <a:buChar char="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Information visuelle de la ligne à l’intérieur et à l’extérieur du bus conforme (hauteur, couleur, localisation). Conforme au départ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4d4d4d"/>
              </a:buClr>
              <a:buFont typeface="Wingdings" charset="2"/>
              <a:buChar char="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4d4d4d"/>
              </a:buClr>
              <a:buFont typeface="Wingdings" charset="2"/>
              <a:buChar char="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Présence de l’information dynamique à l’intérieur du bus sur les bandeaux lumineux ou les écrans doubles faces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ff9900"/>
              </a:buClr>
              <a:buFont typeface="Wingdings" charset="2"/>
              <a:buChar char="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Dans le cadre du renouvellement du Système d’Aide à l’Exploitation et à l’Information des Voyageurs des écrans d’informations dynamiques ont été acquis. Ils comprennent  l’information sonore.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ff9900"/>
              </a:buClr>
              <a:buFont typeface="Wingdings" charset="2"/>
              <a:buChar char="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ff9900"/>
              </a:buClr>
              <a:buFont typeface="Wingdings" charset="2"/>
              <a:buChar char="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ff9900"/>
                </a:solidFill>
                <a:latin typeface="Arial"/>
              </a:rPr>
              <a:t>Présence d’un plan du réseau et d’un plan de ligne à l’intérieur des véhicules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0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EB01-F6F4-4D6E-BB5F-8098F9DD01CF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ZoneTexte 2"/>
          <p:cNvSpPr/>
          <p:nvPr/>
        </p:nvSpPr>
        <p:spPr>
          <a:xfrm>
            <a:off x="136440" y="6336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755640" y="1494000"/>
            <a:ext cx="5545080" cy="43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409f39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409f39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409f39"/>
                </a:solidFill>
                <a:latin typeface="Arial"/>
              </a:rPr>
              <a:t>Arrêts de bus :  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Clarté de l’information (conforme au départ).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Indication des lignes de transports et de leurs destinations à chaque emplacement d’arrêt (conforme au départ)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ff9900"/>
                </a:solidFill>
                <a:latin typeface="Arial"/>
              </a:rPr>
              <a:t>Des tailles de caractères agrandies pour les horaires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afin d’être conformes à la réglementation sur 100% des points d’arrêts du réseau et un sur agrandissement à la Gare et à Théâtre. Un recensement des arrêts qui se prêtent à ce sur agrandissement sera fait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20 arrêts sont équipés de bornes d’informations visuelles indiquant le temps d’attente en temps réel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4d4d4d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409f39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409f39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409f39"/>
                </a:solidFill>
                <a:latin typeface="Arial"/>
              </a:rPr>
              <a:t>Internet et téléphone</a:t>
            </a: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409f39"/>
              </a:buClr>
              <a:buFont typeface="Wingdings 3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55640" y="984240"/>
            <a:ext cx="4968720" cy="368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’information</a:t>
            </a: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755640" y="2728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L’état des lieux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260360" y="5033880"/>
            <a:ext cx="72723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4d4d4d"/>
              </a:buClr>
              <a:buFont typeface="Wingdings" charset="2"/>
              <a:buChar char="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4d4d4d"/>
              </a:buClr>
              <a:buFont typeface="Wingdings" charset="2"/>
              <a:buChar char="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buClr>
                <a:srgbClr val="4d4d4d"/>
              </a:buClr>
              <a:buFont typeface="Wingdings" charset="2"/>
              <a:buChar char="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Informations du réseau TRACE disponibles par téléphone (« Allô TRACE ») et sur le site Internet de la TRACE « </a:t>
            </a:r>
            <a:r>
              <a:rPr b="0" lang="fr-FR" sz="14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www.trace-colmar.fr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 ». Le nouveau site internet est accessible depuis février 2017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6" name="Picture 6" descr="IMGP5027_lignearret"/>
          <p:cNvPicPr/>
          <p:nvPr/>
        </p:nvPicPr>
        <p:blipFill>
          <a:blip r:embed="rId2"/>
          <a:stretch/>
        </p:blipFill>
        <p:spPr>
          <a:xfrm>
            <a:off x="6877080" y="1638360"/>
            <a:ext cx="1655640" cy="1243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17" name="Picture 7" descr="IMGP5039"/>
          <p:cNvPicPr/>
          <p:nvPr/>
        </p:nvPicPr>
        <p:blipFill>
          <a:blip r:embed="rId3"/>
          <a:srcRect l="7980" t="13639" r="13606" b="6047"/>
          <a:stretch/>
        </p:blipFill>
        <p:spPr>
          <a:xfrm>
            <a:off x="6877080" y="3294000"/>
            <a:ext cx="1655640" cy="1271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8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1B38-967A-4125-9489-CAE5F1FDDF32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9" name="ZoneTexte 2"/>
          <p:cNvSpPr/>
          <p:nvPr/>
        </p:nvSpPr>
        <p:spPr>
          <a:xfrm>
            <a:off x="136440" y="6336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828720" y="917640"/>
            <a:ext cx="7200720" cy="368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oint de vente : agence commerciale rue Kléber</a:t>
            </a: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55640" y="270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L’état des lieux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C309-0927-40F8-914F-BF1E6F6764C8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755640" y="1422360"/>
            <a:ext cx="4248000" cy="20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9900"/>
              </a:buClr>
              <a:buFont typeface="Wingdings" charset="2"/>
              <a:buChar char="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fr-FR" sz="1600" spc="-1" strike="noStrike">
                <a:solidFill>
                  <a:srgbClr val="ff9900"/>
                </a:solidFill>
                <a:latin typeface="Arial"/>
              </a:rPr>
              <a:t>Une agence commerciale TRACE accessible en termes de cheminement et de mobilier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présence d’un guichet abaissé mais toujours pas utilisé, pas d’accessibilité pour les personnes malvoyantes.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    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Conforme au départ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285840" indent="-285840"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24" name="Picture 3" descr="\\serveur-datacac\COMMUN_CAC\- 22. ECO.TRANSP.NOMADES.FOURRIERES -\TRANSPORTS\Accessibilité Arrêts de bus\Commission  Access\2013\Photos agence Kléber\P4110241.JPG"/>
          <p:cNvPicPr/>
          <p:nvPr/>
        </p:nvPicPr>
        <p:blipFill>
          <a:blip r:embed="rId1"/>
          <a:stretch/>
        </p:blipFill>
        <p:spPr>
          <a:xfrm>
            <a:off x="755640" y="3354480"/>
            <a:ext cx="2664000" cy="3054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\\serveur-datacac\COMMUN_CAC\- 22. ECO.TRANSP.NOMADES.FOURRIERES -\TRANSPORTS\Accessibilité Arrêts de bus\Commission  Access\2013\Photos agence Kléber\P4110243.JPG"/>
          <p:cNvPicPr/>
          <p:nvPr/>
        </p:nvPicPr>
        <p:blipFill>
          <a:blip r:embed="rId2"/>
          <a:stretch/>
        </p:blipFill>
        <p:spPr>
          <a:xfrm>
            <a:off x="3564000" y="3746520"/>
            <a:ext cx="4753080" cy="26686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\\serveur-datacac\COMMUN_CAC\- 22. ECO.TRANSP.NOMADES.FOURRIERES -\TRANSPORTS\Accessibilité Arrêts de bus\pHotos\Agence Commerciale\P5270014.JPG"/>
          <p:cNvPicPr/>
          <p:nvPr/>
        </p:nvPicPr>
        <p:blipFill>
          <a:blip r:embed="rId3"/>
          <a:stretch/>
        </p:blipFill>
        <p:spPr>
          <a:xfrm>
            <a:off x="4932360" y="1284120"/>
            <a:ext cx="3384720" cy="2379960"/>
          </a:xfrm>
          <a:prstGeom prst="rect">
            <a:avLst/>
          </a:prstGeom>
          <a:ln w="0">
            <a:noFill/>
          </a:ln>
        </p:spPr>
      </p:pic>
      <p:sp>
        <p:nvSpPr>
          <p:cNvPr id="127" name="ZoneTexte 2"/>
          <p:cNvSpPr/>
          <p:nvPr/>
        </p:nvSpPr>
        <p:spPr>
          <a:xfrm>
            <a:off x="136440" y="6336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755640" y="270000"/>
            <a:ext cx="6769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des lieux 2011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755640" y="1278000"/>
            <a:ext cx="7777080" cy="74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Colmar Agglomération assure la maîtrise d’ouvrage de la mise en accessibilité des arrêts de bus. Depuis 2009, 300 000 € H.T., depuis 2011, 350 000 € H.T. et depuis 2017, 465 000 € H.T. sont investis annuellement pour la mise aux normes des points d’arrêts.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9900"/>
                </a:solidFill>
                <a:latin typeface="Arial"/>
              </a:rPr>
              <a:t>La quasi-totalité des arrêts sera aux normes à l’horizon 2018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Par ailleurs, lorsque les communes réhabilitent une voirie, elles rendent les arrêts de bus accessibles à cette occasion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Dans ce cadre, Colmar Agglomération prend en charge le coût des travaux. Depuis 2008, Colmar Agglomération a ainsi remboursé  la réfection de 32 arrêts à la ville de Colmar.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Les investissements ont permis la mise en accessibilité :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En 2009, de 31 arrêts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En 2010, de 32 arrêts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En 2011, de 34 arrêts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En 2012*, de 29 arrêts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En 2013, de 31 arrêts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En 2014, de 29 arrêts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En 2015, de 34 arrêts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En 2016, de 22 arrêts réalisés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En 2017, 38 arrêts en cours de réalisation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4d4d4d"/>
                </a:solidFill>
                <a:latin typeface="Arial"/>
              </a:rPr>
              <a:t>*Généralisation des bandes de couleurs contrastées sur les abribus,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828720" y="917640"/>
            <a:ext cx="7200720" cy="3682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Les arrêts de bus : accessibilité pour les PMR</a:t>
            </a:r>
            <a:endParaRPr b="1" i="1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55640" y="270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L’état des lieux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5D24-6E29-41C8-B8BE-95EA56123F90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3" name="ZoneTexte 2"/>
          <p:cNvSpPr/>
          <p:nvPr/>
        </p:nvSpPr>
        <p:spPr>
          <a:xfrm>
            <a:off x="147600" y="6336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numéro de diapositive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6975-440D-4884-BFE4-C33BA1C5472B}" type="slidenum">
              <a:rPr b="1" i="1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755640" y="2700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09f39"/>
                </a:solidFill>
                <a:latin typeface="Arial"/>
              </a:rPr>
              <a:t>Projection 2017</a:t>
            </a:r>
            <a:endParaRPr b="1" i="1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900000" y="1206360"/>
            <a:ext cx="493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d4d4d"/>
                </a:solidFill>
                <a:latin typeface="Arial"/>
              </a:rPr>
              <a:t>En 2017, 364 points d’arrêts sur 413 sont accessibles (soit 88%) . </a:t>
            </a:r>
            <a:endParaRPr b="1" i="1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7" name="ZoneTexte 2"/>
          <p:cNvSpPr/>
          <p:nvPr/>
        </p:nvSpPr>
        <p:spPr>
          <a:xfrm>
            <a:off x="154080" y="20520"/>
            <a:ext cx="321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COLMAR AGGLOMERATION</a:t>
            </a:r>
            <a:endParaRPr b="1" i="1" lang="en-US" sz="9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Direction de l’attractivité économique et de la mobilité </a:t>
            </a:r>
            <a:r>
              <a:rPr b="1" lang="fr-FR" sz="9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r>
              <a:rPr b="0" lang="fr-FR" sz="1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	</a:t>
            </a:r>
            <a:endParaRPr b="1" i="1" lang="en-US" sz="1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8" name="Graphique 6" descr=""/>
          <p:cNvPicPr/>
          <p:nvPr/>
        </p:nvPicPr>
        <p:blipFill>
          <a:blip r:embed="rId1"/>
          <a:stretch/>
        </p:blipFill>
        <p:spPr>
          <a:xfrm>
            <a:off x="849240" y="1994040"/>
            <a:ext cx="7805880" cy="45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8T07:27:20Z</dcterms:created>
  <dc:creator>ITEM Etudes &amp; Conseil</dc:creator>
  <dc:description/>
  <dc:language>en-US</dc:language>
  <cp:lastModifiedBy>elkouch</cp:lastModifiedBy>
  <cp:lastPrinted>2017-09-12T12:42:14Z</cp:lastPrinted>
  <dcterms:modified xsi:type="dcterms:W3CDTF">2017-09-12T12:42:41Z</dcterms:modified>
  <cp:revision>2248</cp:revision>
  <dc:subject/>
  <dc:title>Présentation PowerPoint</dc:title>
</cp:coreProperties>
</file>