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1448-0EA4-4413-8408-E448F39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21E8-DE20-4A12-9841-EED6A31B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9127-6452-478A-9DB2-04DF4225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6B9C-5284-4217-BDA2-60ADFAAC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00C61-A774-4CF8-98E7-C8C59950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1122-6A7B-4125-A149-3BA3DEBD7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1A4-507F-4DFC-8EB1-0BE7D17C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D42A-DC93-485F-844A-E1F75FFDF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62C79-3631-4CC2-B11E-58DC27DDC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4A34-3D22-4E08-834A-719E01D1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DE13-31C9-439F-B4DC-8D035868E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D93F-52D5-4F0B-9269-C71C0600D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F6E5D-FE1B-47F4-9BE0-C6F807972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3FE31-2D27-4484-B395-7699B9FF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D852-97C9-46CF-9C85-E2D4CDB6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E5034-D9A9-444E-9E15-3E905DC1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E0C-2178-4733-9FF7-EB0A0D6D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7FB-759C-4419-BF5E-BF2517A3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A2DF-A7C6-4136-8407-DE33A20D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E261-AA0B-4B29-8B9C-2B1486D0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92D0-5EE3-40AD-98FC-B90F78F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9A55-B7AB-48AE-9080-52C442C2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679-F132-444F-9F51-8FE642E9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34E-1D57-42CD-BFB8-42C20CB6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29E7-3507-4583-880D-5658FED0308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5670-C21F-4D84-A8C8-42F7A5AEB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Image 7" descr="CCI2Colmar_PPP_Centre-alsac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Image 1" descr=""/>
          <p:cNvPicPr/>
          <p:nvPr/>
        </p:nvPicPr>
        <p:blipFill>
          <a:blip r:embed="rId3"/>
          <a:stretch/>
        </p:blipFill>
        <p:spPr>
          <a:xfrm>
            <a:off x="14400" y="5915160"/>
            <a:ext cx="2652480" cy="936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860-DE95-48A8-83CF-997040C892A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AE48-0375-4AAA-8B8A-C2CCEEDFCA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6" name="Image 4" descr="CCI2Colmar_PPP_Centre-alsac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ZoneTexte 24"/>
          <p:cNvSpPr/>
          <p:nvPr/>
        </p:nvSpPr>
        <p:spPr>
          <a:xfrm>
            <a:off x="344520" y="3535200"/>
            <a:ext cx="54784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  <a:ea typeface="Arial"/>
              </a:rPr>
              <a:t>Bilan des actions 20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  <a:ea typeface="Arial"/>
              </a:rPr>
              <a:t>Accessibilité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  <a:ea typeface="Arial"/>
              </a:rPr>
              <a:t>Commerce et Services à la perso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alibri"/>
                <a:ea typeface="Arial"/>
              </a:rPr>
              <a:t>Hôtellerie Restauration 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age 1" descr=""/>
          <p:cNvPicPr/>
          <p:nvPr/>
        </p:nvPicPr>
        <p:blipFill>
          <a:blip r:embed="rId2"/>
          <a:stretch/>
        </p:blipFill>
        <p:spPr>
          <a:xfrm>
            <a:off x="311040" y="1927080"/>
            <a:ext cx="4554720" cy="1608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2E81-0497-47AC-9CF9-D56860B6C993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oneTexte 1"/>
          <p:cNvSpPr/>
          <p:nvPr/>
        </p:nvSpPr>
        <p:spPr>
          <a:xfrm>
            <a:off x="500040" y="195120"/>
            <a:ext cx="62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Accompagnement et représentation des 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9"/>
          <p:cNvSpPr/>
          <p:nvPr/>
        </p:nvSpPr>
        <p:spPr>
          <a:xfrm>
            <a:off x="236520" y="1577880"/>
            <a:ext cx="85834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Conseil aux entrep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Accompagnement au montage du dossier Adap avec ou sans demande de dérogatio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28600"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227 commerces Colmar et Centre 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428840" indent="-228600"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79   hôtels/restaurants/débits de boissons Colmar et Centre Als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oneTexte 19"/>
          <p:cNvSpPr/>
          <p:nvPr/>
        </p:nvSpPr>
        <p:spPr>
          <a:xfrm>
            <a:off x="236520" y="4076640"/>
            <a:ext cx="79358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Sous-Commission Départementale d’Accessibi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Représentation des professionnels auprès de la SCDA : 25 réun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4D03A-AB01-4991-944C-70DFAB884A03}" type="slidenum">
              <a:rPr b="0" lang="fr-FR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1"/>
          <p:cNvSpPr/>
          <p:nvPr/>
        </p:nvSpPr>
        <p:spPr>
          <a:xfrm>
            <a:off x="500040" y="195120"/>
            <a:ext cx="621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Vos Cont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19"/>
          <p:cNvSpPr/>
          <p:nvPr/>
        </p:nvSpPr>
        <p:spPr>
          <a:xfrm>
            <a:off x="236520" y="1577880"/>
            <a:ext cx="8583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Service Commerce et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Nadine CROS - 03 89 20 20 42 - n.cros@alsace.cci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Anne BOURGEOIS – 03 89 20 20 04 – a.bourgeois@alsace.cci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19"/>
          <p:cNvSpPr/>
          <p:nvPr/>
        </p:nvSpPr>
        <p:spPr>
          <a:xfrm>
            <a:off x="236520" y="3413160"/>
            <a:ext cx="858348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  <a:ea typeface="Arial"/>
              </a:rPr>
              <a:t>Service Hôtellerie Restauration Touris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Nathalie ZARIC - 03 89 20 20 44 - n.zaric@alsace.cci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1f497d"/>
                </a:solidFill>
                <a:latin typeface="Arial"/>
                <a:ea typeface="Arial"/>
              </a:rPr>
              <a:t>Aurélie LE DIGABEL – 03 89 20 20 50 – a.ledigabel@alsace.cci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3:35:22Z</dcterms:created>
  <dc:creator>WEBER_C</dc:creator>
  <dc:description/>
  <dc:language>en-US</dc:language>
  <cp:lastModifiedBy>ZARIC Nathalie</cp:lastModifiedBy>
  <cp:lastPrinted>2013-08-26T13:09:55Z</cp:lastPrinted>
  <dcterms:modified xsi:type="dcterms:W3CDTF">2017-09-27T10:50:03Z</dcterms:modified>
  <cp:revision>566</cp:revision>
  <dc:subject/>
  <dc:title>Diapositive 1</dc:title>
</cp:coreProperties>
</file>